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3B45-F9C8-42C2-ABE2-DF7C1781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1626-7767-4121-A972-766119C1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72D-AAA2-42C6-876D-22DB9EF0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16D-DA96-4994-AE19-86E600F5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FC81-F689-43CE-92D7-910084B1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0F0-1FF6-4823-9999-46AB64D8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970-1126-49D1-8796-C3CB9E9B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5DE-1A53-45EF-B64C-972729AA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AF2-438F-4446-8978-4358F62E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977B-E6C8-4B83-A0DA-BD773255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B5BD-26EF-4767-85B2-01864949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3D2-B002-4CFD-8DD2-0F2EEABC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fd2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fd29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9CB1-CF6C-40AA-A6F8-BD445F2B8C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im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riters think about the passage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of time in their stories.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Let’s think about a book that we’ve read together.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Let’s take a look at a chart that we can use to help us organize the events of our stories.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ink about the events that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ill happen in your story.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67816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hat will be the time for your story?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ill it take place in one week? One month? One year?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How will time pass in your story?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oday, you will think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about time for your story.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You will fill out a Transition, Action, Detail Chart for your own story.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is will help you map out your story before you begin writing.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6:11:35Z</dcterms:created>
  <dc:creator>AAPS</dc:creator>
  <dc:description/>
  <dc:language>en-US</dc:language>
  <cp:lastModifiedBy>Carrie Dworkin</cp:lastModifiedBy>
  <dcterms:modified xsi:type="dcterms:W3CDTF">2005-08-12T18:12:57Z</dcterms:modified>
  <cp:revision>3</cp:revision>
  <dc:subject/>
  <dc:title>Time</dc:title>
</cp:coreProperties>
</file>